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B4E-1C17-4CEE-91C8-F82D4A9D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5F3-1F6C-4404-9484-8E4557E8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18A-C7BB-4802-A00B-8039C5BF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66E-1DC6-4C2F-B57D-17AC6C82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FFC-1107-47B3-875B-720168C6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4E3-4418-4605-B0F5-8C26C93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F464-99E8-4A00-8C67-EB05BDA5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FB2-BA46-40E6-AE9B-98B2D76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F730-8BAC-4F70-9AA3-DD86D23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BE3-C85F-47CF-BE2A-4F9A186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301D-DE7E-465E-B699-09C2A3D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10C-EC8B-4D52-8211-6484B0C8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D468-7A9B-447F-8F7E-5116F79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BFA-F265-4102-91F2-44E34E4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235-0829-4759-A778-8246158B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51D5-3C92-4A73-99D8-327FA79B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5561-BB8D-4C65-9FF1-B341D931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CEB-73F8-4CDB-9EBF-82D1552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198-3C26-43DC-8C76-7CDAF442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6D7-D6C7-43DE-9CE9-09A6C26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4F6-AEAB-4BCA-BD07-5D07907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E03-32A0-4788-B3D0-5CF81AA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E01-E581-48A7-A49F-49D5892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6FF-5EA4-4272-99BD-7391651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4A8-6D93-4179-9978-25B1D76F6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5161-2633-4061-852F-1259DDEE9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iday, September 5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uble Sided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6d + 8 = 4d + 16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9e – 15 = 12e + 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bin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6(2g + 4) + 10g = 24g + 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worksheet</a:t>
            </a:r>
            <a:br>
              <a:rPr sz="6500"/>
            </a:b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(P.4 part one)</a:t>
            </a:r>
            <a:endParaRPr b="0" lang="en-US" sz="6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begin this course by doing </a:t>
            </a:r>
            <a:r>
              <a:rPr b="0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on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lesson from Chapter 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ot need your textbook this week as I will provide you with worksheets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7e7ff"/>
                </a:solidFill>
                <a:latin typeface="Arial"/>
              </a:rPr>
              <a:t>Anything in Chapter P is </a:t>
            </a:r>
            <a:r>
              <a:rPr b="0" i="1" lang="en-US" sz="5000" spc="-1" strike="noStrike">
                <a:solidFill>
                  <a:srgbClr val="b7e7ff"/>
                </a:solidFill>
                <a:latin typeface="Arial"/>
              </a:rPr>
              <a:t>supposed</a:t>
            </a:r>
            <a:r>
              <a:rPr b="0" lang="en-US" sz="5000" spc="-1" strike="noStrike">
                <a:solidFill>
                  <a:srgbClr val="b7e7ff"/>
                </a:solidFill>
                <a:latin typeface="Arial"/>
              </a:rPr>
              <a:t> to be completely review!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7e7ff"/>
                </a:solidFill>
                <a:latin typeface="Arial"/>
              </a:rPr>
              <a:t>Lesson P.4</a:t>
            </a:r>
            <a:br>
              <a:rPr sz="7500"/>
            </a:br>
            <a:r>
              <a:rPr b="0" lang="en-US" sz="7500" spc="-1" strike="noStrike">
                <a:solidFill>
                  <a:srgbClr val="b7e7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near Equ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n equation with a degree of one (there is only one solution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ne Step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x + 8 = 1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3y = 12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wo Step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2v – 6 = 18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+ 8 = 14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tributive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3(2a + 5) = 57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ke Terms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4b + 6b = 7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9c + 3 – 5c + 8 = 5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8-09-04T19:23:27Z</dcterms:modified>
  <cp:revision>6</cp:revision>
  <dc:subject/>
  <dc:title>Monday, September 10th</dc:title>
</cp:coreProperties>
</file>